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288000" cy="102965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27F3-C0A1-44C4-A986-0255D276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59200" cy="171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1645920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5950800"/>
            <a:ext cx="1645920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EE4E-0D2A-449B-8DD8-02E5D068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59200" cy="171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19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348480" y="2401920"/>
            <a:ext cx="80319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5950800"/>
            <a:ext cx="80319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348480" y="5950800"/>
            <a:ext cx="80319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5B8B-B600-44F3-88B9-BF6D71A90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59200" cy="171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52995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479280" y="2401920"/>
            <a:ext cx="52995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044160" y="2401920"/>
            <a:ext cx="52995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5950800"/>
            <a:ext cx="52995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479280" y="5950800"/>
            <a:ext cx="52995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2044160" y="5950800"/>
            <a:ext cx="52995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01D6-9C0E-4161-BB27-0D2E918F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59200" cy="171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2401920"/>
            <a:ext cx="16459200" cy="6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BC09-60C6-4876-BC8C-88589D93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59200" cy="171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16459200" cy="6794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E968-C9CC-4469-9967-74F82955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59200" cy="171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1960" cy="6794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348480" y="2401920"/>
            <a:ext cx="8031960" cy="6794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E33C-3545-4A34-8499-B8C36487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59200" cy="171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0DF6-079E-4792-A0F3-F74B6B4C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412920"/>
            <a:ext cx="16459200" cy="79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8500-C5E7-4C6A-ABC4-FDD000AC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59200" cy="171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19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348480" y="2401920"/>
            <a:ext cx="8031960" cy="6794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5950800"/>
            <a:ext cx="80319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5C46-B698-4F94-B4BC-5B22DE03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59200" cy="171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1960" cy="6794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348480" y="2401920"/>
            <a:ext cx="80319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348480" y="5950800"/>
            <a:ext cx="80319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8F4C-69A5-4A99-B189-DF57C809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59200" cy="171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19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348480" y="2401920"/>
            <a:ext cx="80319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5950800"/>
            <a:ext cx="1645920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E1E1-EBC8-4F64-9709-A661709F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59200" cy="171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01920"/>
            <a:ext cx="16459200" cy="6794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 fontScale="82000"/>
          </a:bodyPr>
          <a:p>
            <a:pPr marL="562320" indent="-56232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1" marL="1218240" indent="-46872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2" marL="1874520" indent="-37476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3" marL="2624040" indent="-37476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4" marL="3373920" indent="-37476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5" marL="3373920" indent="-37476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6" marL="3373920" indent="-37476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9543960"/>
            <a:ext cx="4267080" cy="549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4A71-E708-4ED8-A337-8566E56A595E}" type="datetime">
              <a:rPr b="0" lang="en-US" sz="24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520" y="9543960"/>
            <a:ext cx="5790960" cy="549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06160" y="9543960"/>
            <a:ext cx="4267080" cy="549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3EAD-AC95-4A97-ADDB-9A7932BC392C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0" y="466560"/>
            <a:ext cx="18288000" cy="91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template is optimized for our widescreen display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1f497d"/>
                </a:solidFill>
                <a:latin typeface="Arial"/>
                <a:ea typeface="Arial"/>
              </a:rPr>
              <a:t>The critical text on your ads</a:t>
            </a:r>
            <a:br>
              <a:rPr sz="7600"/>
            </a:br>
            <a:r>
              <a:rPr b="1" lang="en-US" sz="7600" spc="-1" strike="noStrike">
                <a:solidFill>
                  <a:srgbClr val="1f497d"/>
                </a:solidFill>
                <a:latin typeface="Arial"/>
                <a:ea typeface="Arial"/>
              </a:rPr>
              <a:t>(names, dates, times, locations, etc.) </a:t>
            </a:r>
            <a:br>
              <a:rPr sz="7600"/>
            </a:br>
            <a:r>
              <a:rPr b="1" lang="en-US" sz="7600" spc="-1" strike="noStrike">
                <a:solidFill>
                  <a:srgbClr val="1f497d"/>
                </a:solidFill>
                <a:latin typeface="Arial"/>
                <a:ea typeface="Arial"/>
              </a:rPr>
              <a:t>should not be any smaller than this.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o save your file from PowerPoin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144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ick on the File menu or Office Button (depending on version), then “Save as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144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ame your file, then select JPEG or PNG from the “Format” or “Save as type” drop-down men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144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ave your file. Remember where you saved it so you can upload it la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Please delete this text box when you are done read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8:56:44Z</dcterms:created>
  <dc:creator>Joshua Velasquez</dc:creator>
  <dc:description/>
  <dc:language>en-US</dc:language>
  <cp:lastModifiedBy>Joshua Velasquez</cp:lastModifiedBy>
  <dcterms:modified xsi:type="dcterms:W3CDTF">2010-02-04T15:39:43Z</dcterms:modified>
  <cp:revision>4</cp:revision>
  <dc:subject/>
  <dc:title>Slide 1</dc:title>
</cp:coreProperties>
</file>